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63A-721F-4AE5-A4A1-A13A5D93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82B-FFE4-45F1-A3F4-BCDE0B98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8D4-1B03-45C8-B521-8DC444BE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B33-E3A6-4633-9346-FCF54611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B0D-45F4-445A-9C84-CAC179AB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1D5-59A7-41DF-B076-26898920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04F-21A8-4059-8D17-11BB5355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954-422E-489F-B1ED-C9C03DD6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6A1-308E-49DC-8A37-BE80882E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39C-8A88-461D-97EE-E751193F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DA4-6F6C-4226-BB14-611D0D86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DFF-8027-4150-BD23-0EA43CAF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AD9D-DD0E-469D-8776-E30AC438B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EARNING INT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PPLY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HAKESPEARE’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 BACKGROUND TO HIS 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INTERPRET SHAKESPEARE’S INFLUENCE ON BRITISH LITERA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DENTIFY AND COMPARE THE THEMES OF OTHELLO WITH THEMES IN YOUR LIF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9:17:32Z</dcterms:created>
  <dc:creator>WSFCS Workstation</dc:creator>
  <dc:description/>
  <dc:language>en-US</dc:language>
  <cp:lastModifiedBy>WSFCS Workstation</cp:lastModifiedBy>
  <dcterms:modified xsi:type="dcterms:W3CDTF">2009-10-23T19:20:56Z</dcterms:modified>
  <cp:revision>1</cp:revision>
  <dc:subject/>
  <dc:title>LEARNING INTENTIONS</dc:title>
</cp:coreProperties>
</file>